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sldIdLst>
    <p:sldId id="256" r:id="rId37"/>
    <p:sldId id="257" r:id="rId38"/>
    <p:sldId id="258" r:id="rId39"/>
    <p:sldId id="259" r:id="rId40"/>
    <p:sldId id="260" r:id="rId41"/>
    <p:sldId id="261" r:id="rId42"/>
    <p:sldId id="262" r:id="rId43"/>
    <p:sldId id="263" r:id="rId44"/>
    <p:sldId id="264" r:id="rId45"/>
    <p:sldId id="265"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1625A-4B47-461D-B9BF-BB18AF1317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92AC9381-AF24-434B-9B98-CF0B060CFBC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D5C0DD92-C7AD-46F0-9CF0-8EE9F7DFE68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9"/>
          </p:nvPr>
        </p:nvSpPr>
        <p:spPr/>
        <p:txBody>
          <a:bodyPr/>
          <a:p>
            <a:fld id="{303F9127-CCAD-4584-95A0-835BB6FECAC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
          </p:nvPr>
        </p:nvSpPr>
        <p:spPr/>
        <p:txBody>
          <a:bodyPr/>
          <a:p>
            <a:fld id="{AECF7900-AD1A-45F9-925D-49DA2F7AB96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073DEA75-B7E8-4ECB-9A4F-1D724D9A1E3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0E9CA446-BDE2-4757-8C2E-A777385CAA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AD1CBCC8-4F4D-4AA2-8449-E78D2EF4459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DEAFCE37-8784-46D3-9810-A2831F9611A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
          </p:nvPr>
        </p:nvSpPr>
        <p:spPr/>
        <p:txBody>
          <a:bodyPr/>
          <a:p>
            <a:fld id="{55A965CD-4B47-41E9-A9CF-013084F1CB4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
          </p:nvPr>
        </p:nvSpPr>
        <p:spPr/>
        <p:txBody>
          <a:bodyPr/>
          <a:p>
            <a:fld id="{17DC1DF5-83E8-49DD-9F1E-2653531A12F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DE61555-70DC-49D8-A6A7-C8E588B629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E1CD7875-0753-40EC-924E-2492B4CFEC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049B0B37-3E46-4134-B8FF-4A61880DC6A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31BC81C1-3413-49F1-96BF-093513D14B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AAB6EB32-A62B-487F-AC96-45FBCC55BD5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0"/>
          </p:nvPr>
        </p:nvSpPr>
        <p:spPr/>
        <p:txBody>
          <a:bodyPr/>
          <a:p>
            <a:fld id="{E3834E85-A039-4B34-A995-1CD362127D9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
          </p:nvPr>
        </p:nvSpPr>
        <p:spPr/>
        <p:txBody>
          <a:bodyPr/>
          <a:p>
            <a:fld id="{E444433A-69A1-4D33-B366-CEDC47E0ACC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AD64F254-267E-4E1B-B13C-DC65E152B27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FED7E484-6950-4923-B1D8-EB17B9F8B9F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DEBFB979-6372-487B-AFEE-2DE51271425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AC63CC64-421C-4E2B-9A7E-DD3493EA365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
          </p:nvPr>
        </p:nvSpPr>
        <p:spPr/>
        <p:txBody>
          <a:bodyPr/>
          <a:p>
            <a:fld id="{2FD56932-EA7F-4448-AB42-ACDEEEB755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EB70CF07-8C38-4C28-BE41-C12ADACEB4A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
          </p:nvPr>
        </p:nvSpPr>
        <p:spPr/>
        <p:txBody>
          <a:bodyPr/>
          <a:p>
            <a:fld id="{7B132471-C1F1-4A02-B3EE-8F0E6953A12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6C24EA4-06F3-4F06-B91E-522C4C9DF0E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89B4A260-DAAA-4539-A139-543E59BD246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F07ACDAC-B873-42FE-9EEA-BDE7BAE921C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3F0F34EA-8B14-4E85-B0B6-80F37C573AA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1"/>
          </p:nvPr>
        </p:nvSpPr>
        <p:spPr/>
        <p:txBody>
          <a:bodyPr/>
          <a:p>
            <a:fld id="{82831E54-BC3F-4D53-BD59-369FCBACFA6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1"/>
          </p:nvPr>
        </p:nvSpPr>
        <p:spPr/>
        <p:txBody>
          <a:bodyPr/>
          <a:p>
            <a:fld id="{690A1DCE-9EF7-4BC4-8202-5A442188B8A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2A3BDBD8-E72C-4C31-9011-F13548D966E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B167F05A-37F1-40D3-B0F8-86E02D8B3E2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6B325CCE-F6B9-4C6F-8F55-EFE49FF880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C1D526-F166-4150-B842-B4D0241FC22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4BE25D2E-7C34-4F5B-8822-8D16CCF75D8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1"/>
          </p:nvPr>
        </p:nvSpPr>
        <p:spPr/>
        <p:txBody>
          <a:bodyPr/>
          <a:p>
            <a:fld id="{16AC3EAB-53A2-4400-9834-55469F2574A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1"/>
          </p:nvPr>
        </p:nvSpPr>
        <p:spPr/>
        <p:txBody>
          <a:bodyPr/>
          <a:p>
            <a:fld id="{9F86FF7A-6624-4C74-9AF1-1F87CAE298B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07A27E9-ED99-4401-A192-2F61948ADD8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FDC8D65D-722E-404D-BAAF-38A29CCE528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C1CCB3C3-AB07-42B3-BC58-C2DB106D623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973FE599-C627-4ACA-8D73-5FD618A1FD7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2"/>
          </p:nvPr>
        </p:nvSpPr>
        <p:spPr/>
        <p:txBody>
          <a:bodyPr/>
          <a:p>
            <a:fld id="{58D1E6EF-88D9-47AF-895F-C51CA27CD3B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2"/>
          </p:nvPr>
        </p:nvSpPr>
        <p:spPr/>
        <p:txBody>
          <a:bodyPr/>
          <a:p>
            <a:fld id="{F29760FB-8274-42E3-9D93-08DF2B2836E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3F4DBC33-BA19-4484-B694-9B72B5A141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37D47B20-6798-4855-B119-69A27152D64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A6F1B168-7217-4A67-AAB8-33A6A663EEB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2030D67B-58AE-4076-B1F4-E8F9576DC8C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4892172F-D33A-475F-9644-FB4042E12F8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2"/>
          </p:nvPr>
        </p:nvSpPr>
        <p:spPr/>
        <p:txBody>
          <a:bodyPr/>
          <a:p>
            <a:fld id="{083F6219-F39D-4410-B7E0-DE9A488CC02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2"/>
          </p:nvPr>
        </p:nvSpPr>
        <p:spPr/>
        <p:txBody>
          <a:bodyPr/>
          <a:p>
            <a:fld id="{2617E9ED-812B-48DF-BF47-1A1243D3716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B30B665-B219-45C4-85B6-8593C406B2E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3990465D-DE5B-4E1C-8690-B4BF741F1B5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751B0EA1-5D50-4D68-A10A-508A8AD58A9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B84EA0C7-4FCB-492E-9F1B-3FEF71E605D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3"/>
          </p:nvPr>
        </p:nvSpPr>
        <p:spPr/>
        <p:txBody>
          <a:bodyPr/>
          <a:p>
            <a:fld id="{75C1ADC6-F277-4137-AF19-A57F8DB54D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A76FAC8B-ACD9-4976-A4DA-004171CCB33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3"/>
          </p:nvPr>
        </p:nvSpPr>
        <p:spPr/>
        <p:txBody>
          <a:bodyPr/>
          <a:p>
            <a:fld id="{4C30024B-AAAC-4DEA-AD50-BAEFB56EE7A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82ADC91A-13EB-4A75-B067-3A6523E43A5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96D4BE72-A0AF-4556-A058-224063FC776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241A6005-CCD5-4746-B917-2BA95687118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2A8DE405-0C8D-4660-87FE-1EC456B3CE7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3"/>
          </p:nvPr>
        </p:nvSpPr>
        <p:spPr/>
        <p:txBody>
          <a:bodyPr/>
          <a:p>
            <a:fld id="{682D2BF0-6461-4D27-9184-14E21CCC02B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3"/>
          </p:nvPr>
        </p:nvSpPr>
        <p:spPr/>
        <p:txBody>
          <a:bodyPr/>
          <a:p>
            <a:fld id="{BA14E624-8B48-4E2B-8678-D0DF6DFCC92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0D65115-F9E6-4697-8BB1-65CE94F245C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4C32F38B-3889-4E60-8451-A2E28280FA9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A63BC263-2405-4079-BC79-A548FB944B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306D67BB-91F2-4399-90C7-B9411F75DAC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9BAE086B-D2CE-411C-8F00-995E62FFAF0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4"/>
          </p:nvPr>
        </p:nvSpPr>
        <p:spPr/>
        <p:txBody>
          <a:bodyPr/>
          <a:p>
            <a:fld id="{07E97A97-1539-4221-9CB2-0AEF112B160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4"/>
          </p:nvPr>
        </p:nvSpPr>
        <p:spPr/>
        <p:txBody>
          <a:bodyPr/>
          <a:p>
            <a:fld id="{F91D590A-5469-4E04-BBF9-04C734F79AF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E05280AE-DE68-4703-BADA-5A8AD11C71D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EEC13822-8638-4B0E-B0A5-732AD5C3B7D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79D31CA7-5B14-4F61-8C1C-BB214BB5685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E8A30B1F-4A3A-4F44-A7B1-4F151188B8F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4"/>
          </p:nvPr>
        </p:nvSpPr>
        <p:spPr/>
        <p:txBody>
          <a:bodyPr/>
          <a:p>
            <a:fld id="{9F4A5C02-9165-46A3-A719-6435078F9BE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4"/>
          </p:nvPr>
        </p:nvSpPr>
        <p:spPr/>
        <p:txBody>
          <a:bodyPr/>
          <a:p>
            <a:fld id="{B1C6D215-4E20-4CA9-9F8A-F597F0BB645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5BCF735-30CC-4712-AA4D-B53F28C5D0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6F41F373-34B0-4006-A7D6-7A7CDB65695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AD790026-1DF4-46DA-A746-B4EC4D464C2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A1461C75-E31E-4824-9E9B-B0511242B2E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42222B89-C14D-4A1D-8376-BF2EBE9DE2F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5"/>
          </p:nvPr>
        </p:nvSpPr>
        <p:spPr/>
        <p:txBody>
          <a:bodyPr/>
          <a:p>
            <a:fld id="{C57F9009-8030-4D98-B6BC-94A3F1EE8D2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5"/>
          </p:nvPr>
        </p:nvSpPr>
        <p:spPr/>
        <p:txBody>
          <a:bodyPr/>
          <a:p>
            <a:fld id="{68C568FE-3756-4E8E-9642-1495450188A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9C5AE7FE-65B1-4957-A10D-B2BCD66362D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615C6288-E1B7-4D87-A2AD-57E0E74BECB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D95D2CB2-A6D5-4969-AF8F-00955835865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C5108E15-37C7-4E29-93D4-65C6E3163B3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5"/>
          </p:nvPr>
        </p:nvSpPr>
        <p:spPr/>
        <p:txBody>
          <a:bodyPr/>
          <a:p>
            <a:fld id="{5A073D7A-75DE-4A80-B329-B0788350DE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3DC83A83-B275-41F5-9158-2F6E3F1A89E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5"/>
          </p:nvPr>
        </p:nvSpPr>
        <p:spPr/>
        <p:txBody>
          <a:bodyPr/>
          <a:p>
            <a:fld id="{BAB6274E-2C50-4694-B95F-A9DC1215980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08848DB-1301-4A7B-BFBA-E6FEDBADC85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3D9404A9-E1C2-478D-A6D3-9AEC2D9BAC2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9A92A958-27AB-4382-8E17-D0E954C7935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C96FDEA6-E643-4767-84F7-FC454C3D4F1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6"/>
          </p:nvPr>
        </p:nvSpPr>
        <p:spPr/>
        <p:txBody>
          <a:bodyPr/>
          <a:p>
            <a:fld id="{09177E67-A049-40EE-A285-D8DA5A069B2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6"/>
          </p:nvPr>
        </p:nvSpPr>
        <p:spPr/>
        <p:txBody>
          <a:bodyPr/>
          <a:p>
            <a:fld id="{155D4222-EEA7-43F7-9C5F-9B3FE11529F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68C29187-1D80-4A29-8BE7-CFC90E18F31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969387F4-4755-4575-BAC1-5E29BDBBACA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C338F2A7-3062-40AE-939F-1CC64CB119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231FA424-A00E-4C85-9F46-19962C4E50C5}"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62808A2B-A8E8-429D-8E67-E8604664D5C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6"/>
          </p:nvPr>
        </p:nvSpPr>
        <p:spPr/>
        <p:txBody>
          <a:bodyPr/>
          <a:p>
            <a:fld id="{6A5A0AFF-F212-459D-A448-672EAA46A08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6"/>
          </p:nvPr>
        </p:nvSpPr>
        <p:spPr/>
        <p:txBody>
          <a:bodyPr/>
          <a:p>
            <a:fld id="{8BC96550-0220-4A52-AAC5-68D33701B80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54BEBF0-0F3A-4961-B82A-2F9D909002B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80A1C616-6D65-452E-B986-B0E431DF99F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A0378DBE-369C-44FF-8B46-C1CDC01CF2E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AF7BAD6E-5057-4BCB-877A-E74DC117495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7"/>
          </p:nvPr>
        </p:nvSpPr>
        <p:spPr/>
        <p:txBody>
          <a:bodyPr/>
          <a:p>
            <a:fld id="{BA84804B-6F51-4AB0-8508-EDD4CB3A234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7"/>
          </p:nvPr>
        </p:nvSpPr>
        <p:spPr/>
        <p:txBody>
          <a:bodyPr/>
          <a:p>
            <a:fld id="{4F67C685-2031-4FEF-BA19-0715D995E54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6E2FE814-7627-41A6-9A68-BAE875F8E2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15AA5C9C-4EF9-4093-86EB-C98200C17E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E815A900-FFF4-4F52-B6EB-D80C7B2ADE7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55D9B070-AF39-493D-B8CB-177C92D4CC3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67FA5213-8AF1-49D4-A409-5C32F7C2713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9FDA503E-EEA9-4707-9C1D-21387C63120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7"/>
          </p:nvPr>
        </p:nvSpPr>
        <p:spPr/>
        <p:txBody>
          <a:bodyPr/>
          <a:p>
            <a:fld id="{DB371534-147F-4986-A658-BD2E227A66E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7"/>
          </p:nvPr>
        </p:nvSpPr>
        <p:spPr/>
        <p:txBody>
          <a:bodyPr/>
          <a:p>
            <a:fld id="{52633CB4-FBE5-44E2-AA3D-49D3FCEDC0E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D5F81B7-2D4C-42B7-B376-6DA5EC57B2E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F12339D7-2E45-47FB-93E1-53D52F21155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238244E6-211D-46FE-9976-76C3B320C1D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5BB8A1BC-96B5-431E-8CC8-88F05B1A364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8"/>
          </p:nvPr>
        </p:nvSpPr>
        <p:spPr/>
        <p:txBody>
          <a:bodyPr/>
          <a:p>
            <a:fld id="{C632D3D7-B02B-4397-B2B3-3B786328D0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801C644B-7CB8-4986-A1DA-BDD12295F51D}"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8"/>
          </p:nvPr>
        </p:nvSpPr>
        <p:spPr/>
        <p:txBody>
          <a:bodyPr/>
          <a:p>
            <a:fld id="{CAD95259-93DF-4A99-8A8C-E3913AABCFB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5E77A84A-7AE2-4250-B23B-0D6AC5EB9B4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CCD1EA37-323E-42FA-9A38-BA622770D03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78247591-526E-464C-9CB8-24B9183203C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C01BE767-FD39-47A3-9C7F-F0CBAC8BAF9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8"/>
          </p:nvPr>
        </p:nvSpPr>
        <p:spPr/>
        <p:txBody>
          <a:bodyPr/>
          <a:p>
            <a:fld id="{4911DF62-F98D-412A-81CE-297495A8F6E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8"/>
          </p:nvPr>
        </p:nvSpPr>
        <p:spPr/>
        <p:txBody>
          <a:bodyPr/>
          <a:p>
            <a:fld id="{53207D8D-3EAC-4B2A-9D90-C6082059AFE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60DDF5E-4735-488E-A1FB-24C97367BC8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89745978-71B9-473A-A320-499D6B7FA8A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F8DB8CC6-EE5E-469F-BE01-6B1428C5FD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22D0EB15-7F9B-4E75-BC65-82EFF2DFB43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39B5749D-D45D-44F0-B887-CB8E300CD35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9"/>
          </p:nvPr>
        </p:nvSpPr>
        <p:spPr/>
        <p:txBody>
          <a:bodyPr/>
          <a:p>
            <a:fld id="{6BECD203-DF0D-483E-8B0C-9E5F4F9FD32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9"/>
          </p:nvPr>
        </p:nvSpPr>
        <p:spPr/>
        <p:txBody>
          <a:bodyPr/>
          <a:p>
            <a:fld id="{4E55F67C-E122-4BAD-BBEA-0B4F0A3F738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A6ED24AF-DB9F-42E3-A9F2-CB5CDA2C05C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9DB4294F-30B2-4D62-AAF0-9FA13474099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FBDD3FAA-93F8-419F-A210-7E941C1BC29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D1FB1B2A-6785-4202-986F-4400B03FE87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9"/>
          </p:nvPr>
        </p:nvSpPr>
        <p:spPr/>
        <p:txBody>
          <a:bodyPr/>
          <a:p>
            <a:fld id="{18ABD25B-8462-46AA-8CEB-0F132C6091F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9"/>
          </p:nvPr>
        </p:nvSpPr>
        <p:spPr/>
        <p:txBody>
          <a:bodyPr/>
          <a:p>
            <a:fld id="{C1951F46-1ED4-4D3F-91CC-F0790E50299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00B01C3-7A8D-414F-B667-6D9A1BCBE4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E2DD634F-5C8A-4941-96D8-66F293AEE26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CE3F7230-2F53-4940-BC59-0FAD2A5624B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03DAAE9D-C0F9-40D4-B957-B54A94CF33C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69BD05FF-D950-4CC6-86A1-803BC5612B2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0"/>
          </p:nvPr>
        </p:nvSpPr>
        <p:spPr/>
        <p:txBody>
          <a:bodyPr/>
          <a:p>
            <a:fld id="{1EA97EB3-089E-4A68-AEFC-B4B6BB98F85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0"/>
          </p:nvPr>
        </p:nvSpPr>
        <p:spPr/>
        <p:txBody>
          <a:bodyPr/>
          <a:p>
            <a:fld id="{BF219FC2-1387-45F7-8139-A75315FBD05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922D97B9-AE8F-42CC-8388-C6857F4BF82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FCFA1258-4A15-42C8-996B-5EF374FADE3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B1BC831A-CECC-4E50-85C6-586D6A6B10F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DC3BEDF9-2ED6-4EFA-950D-56DA77F7242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0"/>
          </p:nvPr>
        </p:nvSpPr>
        <p:spPr/>
        <p:txBody>
          <a:bodyPr/>
          <a:p>
            <a:fld id="{A691040E-70E4-4496-81A7-40FF7CC114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2FBE5737-1076-4627-A8E9-83D19F148C6B}"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0"/>
          </p:nvPr>
        </p:nvSpPr>
        <p:spPr/>
        <p:txBody>
          <a:bodyPr/>
          <a:p>
            <a:fld id="{4DEF3AF8-BCC7-4D5F-BAB5-606A1C59047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AD94A050-E77E-4F20-9F68-3CCC2E5FF2E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48882D40-52D1-4886-889E-339CD6AF0B0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A073C3C7-0479-4936-A71D-FA3B27204DF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33D47AE4-F4F7-4C28-B545-A45A929F4CA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1"/>
          </p:nvPr>
        </p:nvSpPr>
        <p:spPr/>
        <p:txBody>
          <a:bodyPr/>
          <a:p>
            <a:fld id="{8B612CCE-AAB8-4696-AE1A-C0751E9C154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1"/>
          </p:nvPr>
        </p:nvSpPr>
        <p:spPr/>
        <p:txBody>
          <a:bodyPr/>
          <a:p>
            <a:fld id="{16D79CC0-3820-4BCF-B0A8-288A64A9A89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EC932B53-A637-45D1-905D-D74D936C0D5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06CF1C4F-19B2-48B3-80FB-957CD8626F4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479E009B-F2DC-4D8A-A4CB-B58545D4CB1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E17A50-19A6-4526-B632-80A0FBCFD3AE}"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D573DD81-7A12-4EBF-92EC-42A8ABB2D11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1"/>
          </p:nvPr>
        </p:nvSpPr>
        <p:spPr/>
        <p:txBody>
          <a:bodyPr/>
          <a:p>
            <a:fld id="{0B80AD19-FC31-4E4F-90F2-72BE34CB1BD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1"/>
          </p:nvPr>
        </p:nvSpPr>
        <p:spPr/>
        <p:txBody>
          <a:bodyPr/>
          <a:p>
            <a:fld id="{C775EF7F-5187-40CB-87E0-97FD4C90659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3E8604B-A8DA-4295-AC1E-739B1D5180D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8B30D1D5-E9B7-4013-90D0-769B0A0FBD9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06D9B7BB-5D5B-4772-8B53-A9FFFBA808A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736245AD-E74F-4963-A55B-9863D82BB83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2"/>
          </p:nvPr>
        </p:nvSpPr>
        <p:spPr/>
        <p:txBody>
          <a:bodyPr/>
          <a:p>
            <a:fld id="{8509985C-53B0-4C5A-843C-6738B7B3D3B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2"/>
          </p:nvPr>
        </p:nvSpPr>
        <p:spPr/>
        <p:txBody>
          <a:bodyPr/>
          <a:p>
            <a:fld id="{CF07D51D-F122-4620-9ADF-3DCA35326F4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67C9BC9A-7E61-4976-9B6F-6DB8B883A2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28628A42-655F-42F0-9F80-8F168493FDA2}"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C58138DE-1A24-453B-8059-1D284E8DFAE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340C1119-BCFD-44A0-82DB-BCCBC8F489A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1D9B6805-EC1F-4854-AE37-5A388B27BDF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2"/>
          </p:nvPr>
        </p:nvSpPr>
        <p:spPr/>
        <p:txBody>
          <a:bodyPr/>
          <a:p>
            <a:fld id="{A34F4CF3-F933-4768-AC9E-1603F3EB1DE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2"/>
          </p:nvPr>
        </p:nvSpPr>
        <p:spPr/>
        <p:txBody>
          <a:bodyPr/>
          <a:p>
            <a:fld id="{24793501-1D1E-4759-AE0B-D13217A894F2}"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0BA75739-BD44-453E-B068-0CA493B5170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A23EB055-77D9-497E-AEE6-CE13398FC12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CED88678-23F8-4705-8DDE-6752DDA8132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608CD03F-8A72-48E2-B94A-B67D1B002A1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3"/>
          </p:nvPr>
        </p:nvSpPr>
        <p:spPr/>
        <p:txBody>
          <a:bodyPr/>
          <a:p>
            <a:fld id="{9FA57A95-15A8-4857-9B93-B76904227B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4A67589E-8477-48DF-953E-3FACD40E2A9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3"/>
          </p:nvPr>
        </p:nvSpPr>
        <p:spPr/>
        <p:txBody>
          <a:bodyPr/>
          <a:p>
            <a:fld id="{1BDAAF3F-9284-4C01-8633-6B304D8E74A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1B4A519B-5104-49AE-9465-FA8EA17CEA4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E6C1781D-43D0-4294-80B5-FBE7297AAB2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39468725-CFCC-4E44-A0C2-9389A9B7864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842EDAF8-260A-48BF-8483-7A5060CD1C4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3"/>
          </p:nvPr>
        </p:nvSpPr>
        <p:spPr/>
        <p:txBody>
          <a:bodyPr/>
          <a:p>
            <a:fld id="{BE59D847-1289-4CAE-AD97-55541155597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3"/>
          </p:nvPr>
        </p:nvSpPr>
        <p:spPr/>
        <p:txBody>
          <a:bodyPr/>
          <a:p>
            <a:fld id="{413D072E-B22E-479A-9458-BF413328352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60CDC05-32A1-4161-ADFC-FDC6B6103EC2}"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14E8BC1A-010F-4AE1-B325-A17E2165B60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4A486FEB-1D27-4D5C-B310-C7B41398E7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97677726-8EB9-4A56-9988-D640A137EA7A}"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594A4276-D144-4B68-98C5-E72F22F4784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4"/>
          </p:nvPr>
        </p:nvSpPr>
        <p:spPr/>
        <p:txBody>
          <a:bodyPr/>
          <a:p>
            <a:fld id="{E754FBE4-CCC1-49B7-8D04-C06659CDB61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4"/>
          </p:nvPr>
        </p:nvSpPr>
        <p:spPr/>
        <p:txBody>
          <a:bodyPr/>
          <a:p>
            <a:fld id="{E263E4B0-9AE3-4522-97EE-EF5A9C5B1E2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FA2E6948-EE04-4CDF-9F55-7D950A3BEBF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F2EE311F-AFC5-4BCD-9798-401A56930D58}"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3692FEFC-77B0-474F-9D14-A1F6631E4D57}"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378A643F-1C73-49CD-AD6C-A5AB7A110C4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4"/>
          </p:nvPr>
        </p:nvSpPr>
        <p:spPr/>
        <p:txBody>
          <a:bodyPr/>
          <a:p>
            <a:fld id="{8BFE7989-C32F-4216-BF1D-71D9DCFB131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4"/>
          </p:nvPr>
        </p:nvSpPr>
        <p:spPr/>
        <p:txBody>
          <a:bodyPr/>
          <a:p>
            <a:fld id="{1EA009C1-DFB4-494B-AB98-F5A109D3F98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37C3608-F7AE-4B7E-BA2E-407222EB8B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
          </p:nvPr>
        </p:nvSpPr>
        <p:spPr/>
        <p:txBody>
          <a:bodyPr/>
          <a:p>
            <a:fld id="{6BB33210-1197-4690-B8A8-3E1D55D435EF}"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1F34CBE0-8390-4659-ADAD-D0466F37A1A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C3DAA241-3CAE-493A-8AE2-2009665B73A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C5009521-8F5D-4D3D-B8DC-E9BEE6A4E798}"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5"/>
          </p:nvPr>
        </p:nvSpPr>
        <p:spPr/>
        <p:txBody>
          <a:bodyPr/>
          <a:p>
            <a:fld id="{548737E8-5990-42FC-B8DF-0C91D7F53571}"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5"/>
          </p:nvPr>
        </p:nvSpPr>
        <p:spPr/>
        <p:txBody>
          <a:bodyPr/>
          <a:p>
            <a:fld id="{D11BBD71-698B-43E9-A54C-6D69AD97C66F}"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24EC15B6-FA5F-4E13-A1B4-175980F1778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FBA8E121-AE9D-4CB9-8B69-2BC47F4F0D8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F32D9608-67BA-4C6F-9500-9FA50907C871}"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BCAB4953-F5F6-480A-8945-5D220F40DCA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5"/>
          </p:nvPr>
        </p:nvSpPr>
        <p:spPr/>
        <p:txBody>
          <a:bodyPr/>
          <a:p>
            <a:fld id="{61E4371D-2AEC-480E-9225-E5A62983BA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9E0D7B26-46C6-4DA4-91AC-E9634B5B74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
          </p:nvPr>
        </p:nvSpPr>
        <p:spPr/>
        <p:txBody>
          <a:bodyPr/>
          <a:p>
            <a:fld id="{1E8669F8-E9F6-4AE7-8DC3-79061C3A5CC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5"/>
          </p:nvPr>
        </p:nvSpPr>
        <p:spPr/>
        <p:txBody>
          <a:bodyPr/>
          <a:p>
            <a:fld id="{553FB2CC-F8B2-4C85-807A-BC3E702081E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7DD1424-0759-4ACA-8499-62FE659CF62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2BD36F96-8F1D-46A3-A4BD-41FD8436DEEC}"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6FDDC966-8331-495A-ACBE-80C0994C382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4DF324F2-E02F-4954-9CD0-27C4C25D615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6"/>
          </p:nvPr>
        </p:nvSpPr>
        <p:spPr/>
        <p:txBody>
          <a:bodyPr/>
          <a:p>
            <a:fld id="{3E16E4DB-2FD0-4F4F-9DC5-E5897AE9604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6"/>
          </p:nvPr>
        </p:nvSpPr>
        <p:spPr/>
        <p:txBody>
          <a:bodyPr/>
          <a:p>
            <a:fld id="{BC028B0C-20B0-4CCC-AB43-C321BCFE09C1}"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FFF89238-5213-4E6C-A0FD-305848E2F9C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48F0770B-A87D-45E9-BD41-24C5E3CD068B}"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745E9F65-7FB2-4561-BAA8-4B70B494C0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9891F64B-6465-42EA-8E8E-1630C4C10137}"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4D83681C-F7B0-4FFC-BB1E-1E74F5979B58}"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6"/>
          </p:nvPr>
        </p:nvSpPr>
        <p:spPr/>
        <p:txBody>
          <a:bodyPr/>
          <a:p>
            <a:fld id="{C7B69EB3-7270-4306-ACC8-9DC855E8179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6"/>
          </p:nvPr>
        </p:nvSpPr>
        <p:spPr/>
        <p:txBody>
          <a:bodyPr/>
          <a:p>
            <a:fld id="{6778031B-204B-4CA6-B835-0BFDCC0C3D67}"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1B68FF14-420D-4247-9AB7-75F9B350A095}"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97C662F7-7FD5-4030-A53C-706EEE9CB07E}"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0E30E922-57D4-4796-8F91-CBE75CF2F3DC}"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D013E900-3000-464A-A2C0-F756ADC46B0F}"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7"/>
          </p:nvPr>
        </p:nvSpPr>
        <p:spPr/>
        <p:txBody>
          <a:bodyPr/>
          <a:p>
            <a:fld id="{4E35D256-E681-4632-A359-14787490A2C1}"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7"/>
          </p:nvPr>
        </p:nvSpPr>
        <p:spPr/>
        <p:txBody>
          <a:bodyPr/>
          <a:p>
            <a:fld id="{DA7CAA16-0736-4BFE-88C9-4454CD3ED961}"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9EC2908A-89BA-48A2-BECE-31E043F184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033210EF-D946-466F-B781-546B1ED04E13}"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23E6700D-7B64-4B9C-967E-6B39596D6C0C}"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A31654FF-CF7E-439E-882D-22EE133D380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0E917178-DD7A-4665-9A32-4AD5A55E169C}"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7"/>
          </p:nvPr>
        </p:nvSpPr>
        <p:spPr/>
        <p:txBody>
          <a:bodyPr/>
          <a:p>
            <a:fld id="{E1B72825-BB65-4278-B5B4-C878D53B3360}"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7"/>
          </p:nvPr>
        </p:nvSpPr>
        <p:spPr/>
        <p:txBody>
          <a:bodyPr/>
          <a:p>
            <a:fld id="{7A8D45E2-FE80-4FDE-BCF3-36378D22998C}"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4D9E6F8-C012-44E8-A170-3D3A56A103D6}"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666DA57C-3481-4CC4-9794-441BA2E5EC69}"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3A1CF859-AA93-45D7-8733-B64B55F1B86E}"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8BEDA892-34A6-4A39-9751-2156A4EA38E8}"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8"/>
          </p:nvPr>
        </p:nvSpPr>
        <p:spPr/>
        <p:txBody>
          <a:bodyPr/>
          <a:p>
            <a:fld id="{8E889C53-B8A3-4533-9039-F47EA9AC15D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86673BD1-67D7-428F-AC93-856F56CE8A64}"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8"/>
          </p:nvPr>
        </p:nvSpPr>
        <p:spPr/>
        <p:txBody>
          <a:bodyPr/>
          <a:p>
            <a:fld id="{F3321BC3-AD9D-426C-AD18-6375D74480EA}"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82877FBF-A064-421C-A098-10764E353633}"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3EAE2A40-F390-473C-8C31-108794D50563}"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77D5D3DF-A0F5-49E5-BCF5-413663B03F32}"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1A5E0853-B4CB-4AD6-9CD2-4768BDF4B9E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8"/>
          </p:nvPr>
        </p:nvSpPr>
        <p:spPr/>
        <p:txBody>
          <a:bodyPr/>
          <a:p>
            <a:fld id="{DD6E6CA8-A5F5-4E0F-8EAF-3353F538A43C}"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8"/>
          </p:nvPr>
        </p:nvSpPr>
        <p:spPr/>
        <p:txBody>
          <a:bodyPr/>
          <a:p>
            <a:fld id="{E1791F6F-D171-4A3C-8FC2-77E70A2E04EB}"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93BA8302-F6B1-45F7-8156-8DDF00F7C446}"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05AB30D3-D3AB-4B1D-AAD4-3BF0FD165085}"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9261E13A-D1A9-465B-9FA1-88A6BF54D4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8ABC1F6F-F50A-41C0-B89E-47AB67465BC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C50B2E8F-842F-4AE8-B2B9-0BDAB4A73EFC}"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9"/>
          </p:nvPr>
        </p:nvSpPr>
        <p:spPr/>
        <p:txBody>
          <a:bodyPr/>
          <a:p>
            <a:fld id="{C576E4AB-AE2B-49AB-B0C0-15160C96833F}"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9"/>
          </p:nvPr>
        </p:nvSpPr>
        <p:spPr/>
        <p:txBody>
          <a:bodyPr/>
          <a:p>
            <a:fld id="{F85B36B9-8BC4-4C11-ACC0-4B5A1315B1B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3C2362EC-DCEA-4E21-95E6-BEFD0AF29C4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B9179DCC-0F46-4CC2-95D5-C3122C6C423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19173C5B-CFA2-4BFD-854F-9F3255333DEF}"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35B06ABE-6FF4-4367-97E3-4D1465CB1DD0}"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9"/>
          </p:nvPr>
        </p:nvSpPr>
        <p:spPr/>
        <p:txBody>
          <a:bodyPr/>
          <a:p>
            <a:fld id="{0EDB3625-8F4D-468E-AC23-6066269B0A38}"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9"/>
          </p:nvPr>
        </p:nvSpPr>
        <p:spPr/>
        <p:txBody>
          <a:bodyPr/>
          <a:p>
            <a:fld id="{0C98C89A-CDF0-4217-87D8-1675279F16BF}"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09187F0-F37A-454A-BFA8-41E56B4920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
          </p:nvPr>
        </p:nvSpPr>
        <p:spPr/>
        <p:txBody>
          <a:bodyPr/>
          <a:p>
            <a:fld id="{54C5133A-BA3D-4258-B763-65757CCAFF6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E970E5B2-C801-45FA-AC0A-8738AE4EF14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46FC49E5-EEF8-4352-B803-2BD7C71A63F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2E94FC2C-D0EB-4373-A4E8-CCD43FCFB568}"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0"/>
          </p:nvPr>
        </p:nvSpPr>
        <p:spPr/>
        <p:txBody>
          <a:bodyPr/>
          <a:p>
            <a:fld id="{4566A1F3-656B-4824-9A54-AE64B079927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0"/>
          </p:nvPr>
        </p:nvSpPr>
        <p:spPr/>
        <p:txBody>
          <a:bodyPr/>
          <a:p>
            <a:fld id="{117094D2-CD81-4206-AF51-30A446F83A2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2B218F70-C121-48EE-975C-964DE27B37CA}"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82A43534-9872-45AA-84F0-6B3968146C0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33F95ACA-0BA8-4761-BA82-2DC0746C0649}"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770FF72B-89B7-45BA-9267-F0D58A34451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0"/>
          </p:nvPr>
        </p:nvSpPr>
        <p:spPr/>
        <p:txBody>
          <a:bodyPr/>
          <a:p>
            <a:fld id="{392A5B82-109F-4103-95D9-E9A36A0D62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
          </p:nvPr>
        </p:nvSpPr>
        <p:spPr/>
        <p:txBody>
          <a:bodyPr/>
          <a:p>
            <a:fld id="{82DA2E31-800B-4AEA-AAEE-7E19500CAD1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0"/>
          </p:nvPr>
        </p:nvSpPr>
        <p:spPr/>
        <p:txBody>
          <a:bodyPr/>
          <a:p>
            <a:fld id="{7B12A5E3-B2CB-478E-8D79-15A58B9B4E2B}"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F1B4BD8A-4C72-47EB-B456-E38FA66D9BB3}"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D805DEB5-2860-4940-90FC-8FBDC452C375}"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89C87AA1-CB34-48B3-A9AE-E17EE882117B}"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7741E1C1-49AF-42F2-9ADF-0C1DEC71AA11}"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1"/>
          </p:nvPr>
        </p:nvSpPr>
        <p:spPr/>
        <p:txBody>
          <a:bodyPr/>
          <a:p>
            <a:fld id="{781C3D5C-7B62-43F7-8DFA-55FA8DA3677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1"/>
          </p:nvPr>
        </p:nvSpPr>
        <p:spPr/>
        <p:txBody>
          <a:bodyPr/>
          <a:p>
            <a:fld id="{701FE4ED-CB80-4EA9-9BB5-522865EE46D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84367D39-5DDC-4B31-836F-8F49B91B1DE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ADADD52E-DFED-4B86-B6BA-F44A2F5E7ADB}"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DE1DEC92-FB9A-4815-A0AD-FD01875E6CB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72350F-318F-48C2-83A2-563AC66270BC}"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E119AF24-41BE-4EEE-82A6-8A2361FF10D6}"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1"/>
          </p:nvPr>
        </p:nvSpPr>
        <p:spPr/>
        <p:txBody>
          <a:bodyPr/>
          <a:p>
            <a:fld id="{3FA53CDB-8502-4B06-A80B-EF3B1B9B723E}"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1"/>
          </p:nvPr>
        </p:nvSpPr>
        <p:spPr/>
        <p:txBody>
          <a:bodyPr/>
          <a:p>
            <a:fld id="{A1E00649-86FD-466A-996A-B4C7D61E4E79}"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5E4BFF55-CFA8-46CA-9114-611476D25DA6}"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645FA959-99F3-4B12-8C1B-949FDE86B19A}"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32F1E87B-47FC-4E6A-9060-E20C78252EE8}"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2D80F971-619D-4BB0-8AA4-8842A8AB9C1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2"/>
          </p:nvPr>
        </p:nvSpPr>
        <p:spPr/>
        <p:txBody>
          <a:bodyPr/>
          <a:p>
            <a:fld id="{57242E32-A0C4-490E-A246-70A8BDA884B0}"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2"/>
          </p:nvPr>
        </p:nvSpPr>
        <p:spPr/>
        <p:txBody>
          <a:bodyPr/>
          <a:p>
            <a:fld id="{A1E155CA-7CF3-48E2-B644-15B899067308}"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D0447858-3C13-433E-B407-63B92DEC679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464C0278-AD82-4637-8339-90DC25AABCB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D9153510-C912-4C26-8B82-6AC68B90689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146852CA-A315-4E88-9A4E-E0FE740DA0C5}"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808BFD2F-2384-4261-BE1E-5C4BD83E39A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2"/>
          </p:nvPr>
        </p:nvSpPr>
        <p:spPr/>
        <p:txBody>
          <a:bodyPr/>
          <a:p>
            <a:fld id="{76B24172-17C4-4E1E-A00F-70A97E0C0A0C}"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2"/>
          </p:nvPr>
        </p:nvSpPr>
        <p:spPr/>
        <p:txBody>
          <a:bodyPr/>
          <a:p>
            <a:fld id="{F30181DF-6F03-4C42-B543-FF0DB7619511}"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FF5F260B-52C6-4F9D-9944-CE9744C64EF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E82AC216-7EDC-4773-A536-77A3A4F29E8E}"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CCAC9D39-1461-49E6-A44B-9B8F7583DC74}"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A09FBC0D-8A9A-4AC1-B905-AE8FC64D2E1E}"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3"/>
          </p:nvPr>
        </p:nvSpPr>
        <p:spPr/>
        <p:txBody>
          <a:bodyPr/>
          <a:p>
            <a:fld id="{73AC7992-8163-4C5D-8D13-91638D60702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0D1717C3-C76A-46BB-B345-595528F893F0}"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3"/>
          </p:nvPr>
        </p:nvSpPr>
        <p:spPr/>
        <p:txBody>
          <a:bodyPr/>
          <a:p>
            <a:fld id="{ACF76DE0-B206-4471-88FD-BE8AB2BADF0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8F392C98-7164-4EB5-875C-7562C3FBF86D}"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C8CEE5D6-BAE2-4FE2-8571-D5CF84A0BD0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43D1B830-0FCD-434E-9C08-BFDBD6F905C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2C9F326D-AF22-4629-B5D1-90A4AD794F36}"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3"/>
          </p:nvPr>
        </p:nvSpPr>
        <p:spPr/>
        <p:txBody>
          <a:bodyPr/>
          <a:p>
            <a:fld id="{D22167BE-CF29-4777-A7BC-739030D0B4CD}"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3"/>
          </p:nvPr>
        </p:nvSpPr>
        <p:spPr/>
        <p:txBody>
          <a:bodyPr/>
          <a:p>
            <a:fld id="{A42FF090-3F24-4AAB-91BA-132612449B42}"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6A9B6571-46C9-4A3F-825A-AFFCE93B6B1F}"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5D3DE4A0-8F26-46F6-84E9-A594940EFEF7}"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B045A290-16CC-424C-BAA4-F3F7E55469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EE1A7C23-9F40-4802-BB7C-1750F956E6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337859CD-EBC0-45FC-BDB7-24BA39F055FC}"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16E1C520-77AE-4D71-8902-17EACD78EC4E}"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4"/>
          </p:nvPr>
        </p:nvSpPr>
        <p:spPr/>
        <p:txBody>
          <a:bodyPr/>
          <a:p>
            <a:fld id="{36F84E98-419F-4E92-85DA-90AA019CB10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4"/>
          </p:nvPr>
        </p:nvSpPr>
        <p:spPr/>
        <p:txBody>
          <a:bodyPr/>
          <a:p>
            <a:fld id="{2D8243CD-ED02-4D66-8475-8567A69E5E2F}"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2DFA12B0-8E10-4040-BED2-74F9F8BDDE5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E05877A2-5D2A-4F05-8216-825A0862AF72}"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6343A2F5-7254-4D1E-A1C1-D4BCB42EC343}"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40294582-92A0-4987-9D02-B0EE1EA1B3D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4"/>
          </p:nvPr>
        </p:nvSpPr>
        <p:spPr/>
        <p:txBody>
          <a:bodyPr/>
          <a:p>
            <a:fld id="{DEC0828D-476C-4D5F-8F30-0F45D02EAD1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4"/>
          </p:nvPr>
        </p:nvSpPr>
        <p:spPr/>
        <p:txBody>
          <a:bodyPr/>
          <a:p>
            <a:fld id="{BD24E4B6-2919-4212-8C80-C311DA50A68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631B6093-A95B-45A1-88AA-6C888291794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4"/>
          </p:nvPr>
        </p:nvSpPr>
        <p:spPr/>
        <p:txBody>
          <a:bodyPr/>
          <a:p>
            <a:fld id="{314D3C81-FEBE-42C5-8B06-42359CB7C9CE}"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88D151B4-6C84-417D-9A13-6411E1E9545A}"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85F0BE70-B4C0-4F11-9F0C-520E4A5CE7A3}"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CD83946C-43D6-4E27-8AD6-9D8A36EC218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5"/>
          </p:nvPr>
        </p:nvSpPr>
        <p:spPr/>
        <p:txBody>
          <a:bodyPr/>
          <a:p>
            <a:fld id="{CA412F58-919C-4D45-AB9D-EF6F5413124C}"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5"/>
          </p:nvPr>
        </p:nvSpPr>
        <p:spPr/>
        <p:txBody>
          <a:bodyPr/>
          <a:p>
            <a:fld id="{6F2CAE05-19A1-4A27-ABB7-7AC4A46D86B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91862F3C-25B9-4CE0-A6A7-A583924BEDDE}"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524E6AE5-8EC1-4C70-BB99-F44BA50A1229}"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C8647FB9-AEDC-4257-961A-12AFCB2CE34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A5D3E6C8-1975-4985-9D17-4738270361CC}"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5"/>
          </p:nvPr>
        </p:nvSpPr>
        <p:spPr/>
        <p:txBody>
          <a:bodyPr/>
          <a:p>
            <a:fld id="{BD045850-96CB-41FD-A929-AE1B7743C30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63739D67-9AA4-47ED-8B68-9A341F8A26BD}"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5"/>
          </p:nvPr>
        </p:nvSpPr>
        <p:spPr/>
        <p:txBody>
          <a:bodyPr/>
          <a:p>
            <a:fld id="{8C7B7B8F-6288-429B-90AA-A7A8E6392C0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A5E53AB8-F574-452A-A871-70DA9D4B957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8EF49790-3968-4533-BAB4-DCFCD84BAAB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6C1C7DDE-BEA8-47CF-BF34-1CD3CF5108E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2D4DE3AF-2B78-4486-A623-C94FF413455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F49D3C93-1C3F-45F8-BAD1-9AC7EF5DE26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9D5A8BA7-CB32-479C-A104-510F939E25C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B79002D-9422-4BF2-ACA0-11DE3F4204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
          </p:nvPr>
        </p:nvSpPr>
        <p:spPr/>
        <p:txBody>
          <a:bodyPr/>
          <a:p>
            <a:fld id="{5E3A711B-2545-416A-8FB8-F3EC84BA740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5B5B2AD6-3D9B-45F9-B3A0-B58CEBD1D00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DA0AE0E5-1DB3-47F7-BB2C-10B86228D50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A97F10C9-6670-4362-9BE0-92540D99E96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5"/>
          </p:nvPr>
        </p:nvSpPr>
        <p:spPr/>
        <p:txBody>
          <a:bodyPr/>
          <a:p>
            <a:fld id="{260B10EF-095C-4B3E-95B0-D7CA232189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
          </p:nvPr>
        </p:nvSpPr>
        <p:spPr/>
        <p:txBody>
          <a:bodyPr/>
          <a:p>
            <a:fld id="{D885485E-8478-4216-96E1-965F8616019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5146F6B7-98C6-4CE7-AC6E-2ABFF55A6BC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5C9583E8-BC96-41EE-B7E5-9218E81DF5E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54530802-21C4-4922-ABF1-CC82FF87DB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8783ED71-A6DD-44BF-A60D-B2708DEC00D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
          </p:nvPr>
        </p:nvSpPr>
        <p:spPr/>
        <p:txBody>
          <a:bodyPr/>
          <a:p>
            <a:fld id="{CF96D231-C21B-48AF-99A9-285A05FBA0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241426D2-AA30-4A44-80FA-D90A269192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
          </p:nvPr>
        </p:nvSpPr>
        <p:spPr/>
        <p:txBody>
          <a:bodyPr/>
          <a:p>
            <a:fld id="{64E7FE5B-0E29-4602-A22D-F24148D2124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33F68A1-6952-4673-86A7-179A5B9D446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10B7DED0-439A-4FA7-AE21-B5D035C345D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54D44280-229B-4D4E-A173-311D4C51905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CE68B7DD-5DE6-4792-8FB8-64ABD49FBE5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6"/>
          </p:nvPr>
        </p:nvSpPr>
        <p:spPr/>
        <p:txBody>
          <a:bodyPr/>
          <a:p>
            <a:fld id="{C09D9444-7532-45C0-9BA1-4AC2667A1A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
          </p:nvPr>
        </p:nvSpPr>
        <p:spPr/>
        <p:txBody>
          <a:bodyPr/>
          <a:p>
            <a:fld id="{98901C0E-6D67-4DA6-A08D-4A9B05472FE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CD93D81D-B698-4B79-9AB4-4685E9D1BC1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DEA7F712-F555-465E-AF21-3D260B896D6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4249D005-EDD0-47EF-8C2E-6EFCE64D33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2A0993ED-7A99-471C-BB0F-FFDC91BA429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9DBC9004-B91C-4C82-AD5E-3006266F033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
          </p:nvPr>
        </p:nvSpPr>
        <p:spPr/>
        <p:txBody>
          <a:bodyPr/>
          <a:p>
            <a:fld id="{B206781A-8F47-4C6A-A8E9-6433D57FC4F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
          </p:nvPr>
        </p:nvSpPr>
        <p:spPr/>
        <p:txBody>
          <a:bodyPr/>
          <a:p>
            <a:fld id="{0F3EAA2F-9590-4586-A264-858F05EB7EA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248F284-B4B2-4930-AD23-B9885892AD2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E5FAFDCB-E6D1-46EB-931F-EC9AD2E8D5F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9E674F8C-642E-4A56-A69A-A01AD3BAE89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75B32B82-8A16-449D-880C-EE39D4F6D29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7"/>
          </p:nvPr>
        </p:nvSpPr>
        <p:spPr/>
        <p:txBody>
          <a:bodyPr/>
          <a:p>
            <a:fld id="{FBAEA9BC-5E3D-4CFC-B8DD-17BD15AB060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
          </p:nvPr>
        </p:nvSpPr>
        <p:spPr/>
        <p:txBody>
          <a:bodyPr/>
          <a:p>
            <a:fld id="{8C579342-CE71-4C25-AF03-525D5AD6BA4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3EF9FD30-294C-447D-89D8-964370197B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CCBDF89A-07EE-4460-84C9-D13AF8FA65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0F54C934-A929-4E35-813F-CF26B6D671F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62464693-C20E-4A10-913B-7BFDF0D2402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CE46CBDB-C14E-4D08-A843-15CBB26FC42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
          </p:nvPr>
        </p:nvSpPr>
        <p:spPr/>
        <p:txBody>
          <a:bodyPr/>
          <a:p>
            <a:fld id="{C68ABB93-25D2-422C-AC7D-8A4DC007512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
          </p:nvPr>
        </p:nvSpPr>
        <p:spPr/>
        <p:txBody>
          <a:bodyPr/>
          <a:p>
            <a:fld id="{0AB1819A-01C1-45C5-9877-3256BF58EAC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4EDF194-66C7-4277-8E89-4CD352B3C17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A043A9CA-8C34-4DF9-A04F-FF8782EE946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8F82CCD2-DD33-4D58-99D2-2600CC9FA23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D8257326-1761-4162-A52F-3716C20D30A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8"/>
          </p:nvPr>
        </p:nvSpPr>
        <p:spPr/>
        <p:txBody>
          <a:bodyPr/>
          <a:p>
            <a:fld id="{E492CEA8-60A9-44C3-86E6-7769C36481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B3B10CF1-1F06-4B97-8C91-7B3A18577FE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
          </p:nvPr>
        </p:nvSpPr>
        <p:spPr/>
        <p:txBody>
          <a:bodyPr/>
          <a:p>
            <a:fld id="{E0D93299-EF7C-4A86-B62A-6092089F467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320910DC-6A48-4707-80C5-373842C68C2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4CE9254F-697E-4258-A230-59D87B9F952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60306852-5F30-4B4C-8B87-541E976FD90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39647198-B5B6-4D21-A109-2AAB7DCD9B4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
          </p:nvPr>
        </p:nvSpPr>
        <p:spPr/>
        <p:txBody>
          <a:bodyPr/>
          <a:p>
            <a:fld id="{36A32351-7E2E-415A-8B5F-51FF7CFADB5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
          </p:nvPr>
        </p:nvSpPr>
        <p:spPr/>
        <p:txBody>
          <a:bodyPr/>
          <a:p>
            <a:fld id="{9D10EE1E-2107-4BB1-963F-435DD0BA4B9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C3A4F52-F3F7-4A5D-B582-201FF708E53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C8D61750-1FCC-4EAD-8E66-3F4A48EC77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2345938A-B086-48C1-A8EA-9A2953F793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sldNum" idx="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A22E-C353-4E4E-87FE-7A867A60D518}"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5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3" name="PlaceHolder 3"/>
          <p:cNvSpPr>
            <a:spLocks noGrp="1"/>
          </p:cNvSpPr>
          <p:nvPr>
            <p:ph type="sldNum" idx="1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2B4C1-09B8-4D13-972C-680D06FFD2FA}"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2" name="PlaceHolder 3"/>
          <p:cNvSpPr>
            <a:spLocks noGrp="1"/>
          </p:cNvSpPr>
          <p:nvPr>
            <p:ph type="sldNum" idx="1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15647-BA03-4863-AD81-D40AE1D93A93}"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1" name="PlaceHolder 3"/>
          <p:cNvSpPr>
            <a:spLocks noGrp="1"/>
          </p:cNvSpPr>
          <p:nvPr>
            <p:ph type="sldNum" idx="1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DB5D2-F7BC-496A-844E-4B5E7625AAF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0" name="PlaceHolder 3"/>
          <p:cNvSpPr>
            <a:spLocks noGrp="1"/>
          </p:cNvSpPr>
          <p:nvPr>
            <p:ph type="sldNum" idx="1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40F27-4E83-4299-81DB-5FE9759D863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0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09" name="PlaceHolder 3"/>
          <p:cNvSpPr>
            <a:spLocks noGrp="1"/>
          </p:cNvSpPr>
          <p:nvPr>
            <p:ph type="sldNum" idx="14"/>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F7004-13AA-44FC-B405-883CEF141333}"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4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48" name="PlaceHolder 3"/>
          <p:cNvSpPr>
            <a:spLocks noGrp="1"/>
          </p:cNvSpPr>
          <p:nvPr>
            <p:ph type="sldNum" idx="15"/>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58A8E-B4B9-4FEA-BA90-A452433C692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87" name="PlaceHolder 3"/>
          <p:cNvSpPr>
            <a:spLocks noGrp="1"/>
          </p:cNvSpPr>
          <p:nvPr>
            <p:ph type="sldNum" idx="1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E4D60-6780-41B2-9CEE-909FE490D65D}"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26" name="PlaceHolder 3"/>
          <p:cNvSpPr>
            <a:spLocks noGrp="1"/>
          </p:cNvSpPr>
          <p:nvPr>
            <p:ph type="sldNum" idx="1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968A3-D748-41FE-923B-D26FEAB8394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image2.png" descr=""/>
          <p:cNvPicPr/>
          <p:nvPr/>
        </p:nvPicPr>
        <p:blipFill>
          <a:blip r:embed="rId2"/>
          <a:stretch/>
        </p:blipFill>
        <p:spPr>
          <a:xfrm>
            <a:off x="0" y="0"/>
            <a:ext cx="9144000" cy="6858000"/>
          </a:xfrm>
          <a:prstGeom prst="rect">
            <a:avLst/>
          </a:prstGeom>
          <a:ln w="0">
            <a:noFill/>
          </a:ln>
        </p:spPr>
      </p:pic>
      <p:sp>
        <p:nvSpPr>
          <p:cNvPr id="6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66" name="PlaceHolder 3"/>
          <p:cNvSpPr>
            <a:spLocks noGrp="1"/>
          </p:cNvSpPr>
          <p:nvPr>
            <p:ph type="sldNum" idx="18"/>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21B80-95B2-4C61-B1D5-24F8C81B6A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image2.png" descr=""/>
          <p:cNvPicPr/>
          <p:nvPr/>
        </p:nvPicPr>
        <p:blipFill>
          <a:blip r:embed="rId2"/>
          <a:stretch/>
        </p:blipFill>
        <p:spPr>
          <a:xfrm>
            <a:off x="0" y="0"/>
            <a:ext cx="9144000" cy="6858000"/>
          </a:xfrm>
          <a:prstGeom prst="rect">
            <a:avLst/>
          </a:prstGeom>
          <a:ln w="0">
            <a:noFill/>
          </a:ln>
        </p:spPr>
      </p:pic>
      <p:sp>
        <p:nvSpPr>
          <p:cNvPr id="7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06" name="PlaceHolder 3"/>
          <p:cNvSpPr>
            <a:spLocks noGrp="1"/>
          </p:cNvSpPr>
          <p:nvPr>
            <p:ph type="sldNum" idx="19"/>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3B07D-8C5C-46CD-A25D-DFE262D8AA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 name="PlaceHolder 3"/>
          <p:cNvSpPr>
            <a:spLocks noGrp="1"/>
          </p:cNvSpPr>
          <p:nvPr>
            <p:ph type="sldNum" idx="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2C57-1AF8-416B-A2A5-4BA100F58669}"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45" name="PlaceHolder 3"/>
          <p:cNvSpPr>
            <a:spLocks noGrp="1"/>
          </p:cNvSpPr>
          <p:nvPr>
            <p:ph type="sldNum" idx="2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5F72A-984B-4BD5-9784-0A1117D62B4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8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84" name="PlaceHolder 3"/>
          <p:cNvSpPr>
            <a:spLocks noGrp="1"/>
          </p:cNvSpPr>
          <p:nvPr>
            <p:ph type="sldNum" idx="2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75F06-2A8D-40DF-8129-17BACB55A660}"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23" name="PlaceHolder 3"/>
          <p:cNvSpPr>
            <a:spLocks noGrp="1"/>
          </p:cNvSpPr>
          <p:nvPr>
            <p:ph type="sldNum" idx="2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66C55-12D0-4C66-B801-75DADD979090}"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2" name="PlaceHolder 3"/>
          <p:cNvSpPr>
            <a:spLocks noGrp="1"/>
          </p:cNvSpPr>
          <p:nvPr>
            <p:ph type="sldNum" idx="2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43A2C-664F-4D13-9D32-C950C3CE4FD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0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01" name="PlaceHolder 3"/>
          <p:cNvSpPr>
            <a:spLocks noGrp="1"/>
          </p:cNvSpPr>
          <p:nvPr>
            <p:ph type="sldNum" idx="2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CBA9B-6C22-404A-8BFF-959F9030D62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3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40" name="PlaceHolder 3"/>
          <p:cNvSpPr>
            <a:spLocks noGrp="1"/>
          </p:cNvSpPr>
          <p:nvPr>
            <p:ph type="sldNum" idx="2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C7FFC-C0B4-465C-9390-F7EA59EAC80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7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79" name="PlaceHolder 3"/>
          <p:cNvSpPr>
            <a:spLocks noGrp="1"/>
          </p:cNvSpPr>
          <p:nvPr>
            <p:ph type="sldNum" idx="2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F4E0C-EBDA-44FC-BED7-0758DFDFC34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1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18" name="PlaceHolder 3"/>
          <p:cNvSpPr>
            <a:spLocks noGrp="1"/>
          </p:cNvSpPr>
          <p:nvPr>
            <p:ph type="sldNum" idx="2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B801B-7934-4C18-84CF-A7CC6DF294F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5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57" name="PlaceHolder 3"/>
          <p:cNvSpPr>
            <a:spLocks noGrp="1"/>
          </p:cNvSpPr>
          <p:nvPr>
            <p:ph type="sldNum" idx="2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F298E-29C6-4EF3-B76F-7D1BACF89623}"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image1.png" descr=""/>
          <p:cNvPicPr/>
          <p:nvPr/>
        </p:nvPicPr>
        <p:blipFill>
          <a:blip r:embed="rId2"/>
          <a:stretch/>
        </p:blipFill>
        <p:spPr>
          <a:xfrm>
            <a:off x="0" y="0"/>
            <a:ext cx="9144000" cy="6858000"/>
          </a:xfrm>
          <a:prstGeom prst="rect">
            <a:avLst/>
          </a:prstGeom>
          <a:ln w="0">
            <a:noFill/>
          </a:ln>
        </p:spPr>
      </p:pic>
      <p:sp>
        <p:nvSpPr>
          <p:cNvPr id="10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97" name="PlaceHolder 3"/>
          <p:cNvSpPr>
            <a:spLocks noGrp="1"/>
          </p:cNvSpPr>
          <p:nvPr>
            <p:ph type="sldNum" idx="29"/>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DFCD8-CE1C-4FDF-B67A-63082510B3EE}"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0" name="PlaceHolder 3"/>
          <p:cNvSpPr>
            <a:spLocks noGrp="1"/>
          </p:cNvSpPr>
          <p:nvPr>
            <p:ph type="sldNum" idx="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AAD0F-B488-43BE-A0F4-1F2FEE5F45B2}"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36" name="PlaceHolder 3"/>
          <p:cNvSpPr>
            <a:spLocks noGrp="1"/>
          </p:cNvSpPr>
          <p:nvPr>
            <p:ph type="sldNum" idx="30"/>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1573C-499A-4AF2-A065-25519D9F966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3" name="image2.png" descr=""/>
          <p:cNvPicPr/>
          <p:nvPr/>
        </p:nvPicPr>
        <p:blipFill>
          <a:blip r:embed="rId2"/>
          <a:stretch/>
        </p:blipFill>
        <p:spPr>
          <a:xfrm>
            <a:off x="0" y="0"/>
            <a:ext cx="9144000" cy="6858000"/>
          </a:xfrm>
          <a:prstGeom prst="rect">
            <a:avLst/>
          </a:prstGeom>
          <a:ln w="0">
            <a:noFill/>
          </a:ln>
        </p:spPr>
      </p:pic>
      <p:sp>
        <p:nvSpPr>
          <p:cNvPr id="11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7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76" name="PlaceHolder 3"/>
          <p:cNvSpPr>
            <a:spLocks noGrp="1"/>
          </p:cNvSpPr>
          <p:nvPr>
            <p:ph type="sldNum" idx="31"/>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590A7-9AC7-4B84-B81F-F28DEDABE961}"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1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5" name="PlaceHolder 3"/>
          <p:cNvSpPr>
            <a:spLocks noGrp="1"/>
          </p:cNvSpPr>
          <p:nvPr>
            <p:ph type="sldNum" idx="3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56516-1F90-45EC-8826-2B88572A224A}"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4" name="PlaceHolder 3"/>
          <p:cNvSpPr>
            <a:spLocks noGrp="1"/>
          </p:cNvSpPr>
          <p:nvPr>
            <p:ph type="sldNum" idx="3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262EF-6CDA-4585-984E-AF4FD750CF2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1" name="image2.png" descr=""/>
          <p:cNvPicPr/>
          <p:nvPr/>
        </p:nvPicPr>
        <p:blipFill>
          <a:blip r:embed="rId2"/>
          <a:stretch/>
        </p:blipFill>
        <p:spPr>
          <a:xfrm>
            <a:off x="0" y="0"/>
            <a:ext cx="9144000" cy="6858000"/>
          </a:xfrm>
          <a:prstGeom prst="rect">
            <a:avLst/>
          </a:prstGeom>
          <a:ln w="0">
            <a:noFill/>
          </a:ln>
        </p:spPr>
      </p:pic>
      <p:sp>
        <p:nvSpPr>
          <p:cNvPr id="12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4" name="PlaceHolder 3"/>
          <p:cNvSpPr>
            <a:spLocks noGrp="1"/>
          </p:cNvSpPr>
          <p:nvPr>
            <p:ph type="sldNum" idx="34"/>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36BD0-6EB8-4F3A-8004-757A014C760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1" name="image2.png" descr=""/>
          <p:cNvPicPr/>
          <p:nvPr/>
        </p:nvPicPr>
        <p:blipFill>
          <a:blip r:embed="rId2"/>
          <a:stretch/>
        </p:blipFill>
        <p:spPr>
          <a:xfrm>
            <a:off x="0" y="0"/>
            <a:ext cx="9144000" cy="6858000"/>
          </a:xfrm>
          <a:prstGeom prst="rect">
            <a:avLst/>
          </a:prstGeom>
          <a:ln w="0">
            <a:noFill/>
          </a:ln>
        </p:spPr>
      </p:pic>
      <p:sp>
        <p:nvSpPr>
          <p:cNvPr id="1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3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4" name="PlaceHolder 3"/>
          <p:cNvSpPr>
            <a:spLocks noGrp="1"/>
          </p:cNvSpPr>
          <p:nvPr>
            <p:ph type="sldNum" idx="35"/>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7A282-82A1-4432-8C40-A2FF254D3FC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9" name="PlaceHolder 3"/>
          <p:cNvSpPr>
            <a:spLocks noGrp="1"/>
          </p:cNvSpPr>
          <p:nvPr>
            <p:ph type="sldNum" idx="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F97F5-AA0C-41D6-A88B-ED7FE886325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8" name="PlaceHolder 3"/>
          <p:cNvSpPr>
            <a:spLocks noGrp="1"/>
          </p:cNvSpPr>
          <p:nvPr>
            <p:ph type="sldNum" idx="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C0594-C2EB-493B-9353-92A2AEDB6B39}"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7" name="PlaceHolder 3"/>
          <p:cNvSpPr>
            <a:spLocks noGrp="1"/>
          </p:cNvSpPr>
          <p:nvPr>
            <p:ph type="sldNum" idx="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9A22B-2854-4535-9996-04C34DD1F98D}"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6" name="PlaceHolder 3"/>
          <p:cNvSpPr>
            <a:spLocks noGrp="1"/>
          </p:cNvSpPr>
          <p:nvPr>
            <p:ph type="sldNum" idx="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4F32E-6910-4D51-A500-E6F7CFE6CC9F}"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5" name="PlaceHolder 3"/>
          <p:cNvSpPr>
            <a:spLocks noGrp="1"/>
          </p:cNvSpPr>
          <p:nvPr>
            <p:ph type="sldNum" idx="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6928C-0363-46AF-B6FD-A80407C5DE8A}"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14" name="PlaceHolder 3"/>
          <p:cNvSpPr>
            <a:spLocks noGrp="1"/>
          </p:cNvSpPr>
          <p:nvPr>
            <p:ph type="sldNum" idx="9"/>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62E1F-BD5C-4CE5-AA8B-3EBC0B9E215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image3.png" descr=""/>
          <p:cNvPicPr/>
          <p:nvPr/>
        </p:nvPicPr>
        <p:blipFill>
          <a:blip r:embed="rId1"/>
          <a:stretch/>
        </p:blipFill>
        <p:spPr>
          <a:xfrm>
            <a:off x="0" y="0"/>
            <a:ext cx="9144000" cy="6858000"/>
          </a:xfrm>
          <a:prstGeom prst="rect">
            <a:avLst/>
          </a:prstGeom>
          <a:ln w="0">
            <a:noFill/>
          </a:ln>
        </p:spPr>
      </p:pic>
      <p:sp>
        <p:nvSpPr>
          <p:cNvPr id="1372"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3200" spc="-1" strike="noStrike">
                <a:solidFill>
                  <a:srgbClr val="ffffff"/>
                </a:solidFill>
                <a:latin typeface="Calibri"/>
                <a:ea typeface="Calibri"/>
              </a:rPr>
              <a:t>CONSELHO NACIONAL DE PREVIDÊNCIA</a:t>
            </a:r>
            <a:br>
              <a:rPr sz="3200"/>
            </a:br>
            <a:br>
              <a:rPr sz="3600"/>
            </a:br>
            <a:r>
              <a:rPr b="1" lang="pt-BR" sz="3600" spc="-1" strike="noStrike">
                <a:solidFill>
                  <a:srgbClr val="ffffff"/>
                </a:solidFill>
                <a:latin typeface="Calibri"/>
                <a:ea typeface="Calibri"/>
              </a:rPr>
              <a:t>07 de Agosto de 2017</a:t>
            </a:r>
            <a:br>
              <a:rPr sz="3200"/>
            </a:br>
            <a:endParaRPr b="0" lang="en-US" sz="36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3" name="image3.png" descr=""/>
          <p:cNvPicPr/>
          <p:nvPr/>
        </p:nvPicPr>
        <p:blipFill>
          <a:blip r:embed="rId1"/>
          <a:stretch/>
        </p:blipFill>
        <p:spPr>
          <a:xfrm>
            <a:off x="0" y="0"/>
            <a:ext cx="9144000" cy="6858000"/>
          </a:xfrm>
          <a:prstGeom prst="rect">
            <a:avLst/>
          </a:prstGeom>
          <a:ln w="0">
            <a:noFill/>
          </a:ln>
        </p:spPr>
      </p:pic>
      <p:sp>
        <p:nvSpPr>
          <p:cNvPr id="1394"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7200" spc="-1" strike="noStrike">
                <a:solidFill>
                  <a:srgbClr val="ffffff"/>
                </a:solidFill>
                <a:latin typeface="Brush Script MT"/>
                <a:ea typeface="Calibri"/>
              </a:rPr>
              <a:t>OBRIGADO </a:t>
            </a:r>
            <a:br>
              <a:rPr sz="7200"/>
            </a:br>
            <a:br>
              <a:rPr sz="3200"/>
            </a:br>
            <a:endParaRPr b="0" lang="en-US" sz="7200" spc="-1" strike="noStrike">
              <a:solidFill>
                <a:srgbClr val="000000"/>
              </a:solidFill>
              <a:latin typeface="Calibri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image4.png" descr=""/>
          <p:cNvPicPr/>
          <p:nvPr/>
        </p:nvPicPr>
        <p:blipFill>
          <a:blip r:embed="rId1"/>
          <a:stretch/>
        </p:blipFill>
        <p:spPr>
          <a:xfrm>
            <a:off x="0" y="0"/>
            <a:ext cx="9144000" cy="6858000"/>
          </a:xfrm>
          <a:prstGeom prst="rect">
            <a:avLst/>
          </a:prstGeom>
          <a:ln w="0">
            <a:noFill/>
          </a:ln>
        </p:spPr>
      </p:pic>
      <p:sp>
        <p:nvSpPr>
          <p:cNvPr id="1375" name="PlaceHolder 1"/>
          <p:cNvSpPr>
            <a:spLocks noGrp="1"/>
          </p:cNvSpPr>
          <p:nvPr>
            <p:ph type="title"/>
          </p:nvPr>
        </p:nvSpPr>
        <p:spPr>
          <a:xfrm>
            <a:off x="-360" y="0"/>
            <a:ext cx="3840120" cy="285264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 </a:t>
            </a:r>
            <a:endParaRPr b="0" lang="en-US" sz="4000" spc="-1" strike="noStrike">
              <a:solidFill>
                <a:srgbClr val="000000"/>
              </a:solidFill>
              <a:latin typeface="Calibri Light"/>
            </a:endParaRPr>
          </a:p>
        </p:txBody>
      </p:sp>
      <p:sp>
        <p:nvSpPr>
          <p:cNvPr id="1376" name="Shape 186"/>
          <p:cNvSpPr/>
          <p:nvPr/>
        </p:nvSpPr>
        <p:spPr>
          <a:xfrm>
            <a:off x="119160" y="3736800"/>
            <a:ext cx="9144000" cy="291636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4400" spc="-1" strike="noStrike">
                <a:solidFill>
                  <a:srgbClr val="ffffff"/>
                </a:solidFill>
                <a:latin typeface="Calibri"/>
                <a:ea typeface="Calibri"/>
              </a:rPr>
              <a:t>APRESENTAÇÃO: Reparcelamento da Divida Previdenciária dos Municípios </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Calibri"/>
                <a:ea typeface="Calibri"/>
              </a:rPr>
              <a:t>Sergio Aureliano</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Confederação Nacional de Municípios.</a:t>
            </a:r>
            <a:endParaRPr b="0" lang="en-US" sz="3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Calibri"/>
                <a:ea typeface="Calibri"/>
              </a:rPr>
              <a:t> </a:t>
            </a:r>
            <a:endParaRPr b="0" lang="en-US" sz="4000" spc="-1" strike="noStrike">
              <a:solidFill>
                <a:srgbClr val="000000"/>
              </a:solidFill>
              <a:latin typeface="Calibri Light"/>
            </a:endParaRPr>
          </a:p>
        </p:txBody>
      </p:sp>
      <p:sp>
        <p:nvSpPr>
          <p:cNvPr id="1378" name="PlaceHolder 2"/>
          <p:cNvSpPr>
            <a:spLocks noGrp="1"/>
          </p:cNvSpPr>
          <p:nvPr>
            <p:ph/>
          </p:nvPr>
        </p:nvSpPr>
        <p:spPr>
          <a:xfrm>
            <a:off x="162000" y="866880"/>
            <a:ext cx="8820000" cy="4906800"/>
          </a:xfrm>
          <a:prstGeom prst="rect">
            <a:avLst/>
          </a:prstGeom>
          <a:noFill/>
          <a:ln w="0">
            <a:noFill/>
          </a:ln>
        </p:spPr>
        <p:txBody>
          <a:bodyPr lIns="45720" rIns="45720" anchor="t">
            <a:normAutofit/>
          </a:bodyPr>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2060"/>
                </a:solidFill>
                <a:latin typeface="Arial"/>
                <a:ea typeface="Arial"/>
              </a:rPr>
              <a:t>Reparcelamento da dívida do Regime Geral de Previdência Social – Medida Provisória 778/2017</a:t>
            </a:r>
            <a:endParaRPr b="0" lang="en-US" sz="4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0"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s débitos podem ser parcelados em até 200 meses, dependendo do montante da dívida em relação à RCL do Município. Essas parcelas serão divididas em 3 grupos: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6 parcelas, a serem pagas de julho a dezembro de 2017, cada uma de 0,4% da dívida consolida, sem nenhum desconto de multa ou juros, totalizando 2,4% da dívida;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194 parcelas mensais correspondente à divisão da consolidação da divida,  reduzida de 25% das multas e 80 % dos juros, total das parcelas pagas de Julho a Dezembro/2017, a partir de janeiro de 2018, limitadas a 1% da RCL (caso o Município tenha dívidas inscritas em dívida ativa, terá um parcelamento da RFB e outro da PGFN, cada um limitado a 0,5% da RCL, totalizando no máximo 1% da RCL); e </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o saldo que sobrar ao final dos 200 meses, caso a parcela tenha sido limitada a 1% da RCL, será reparcelado em 60 meses através de novo parcelamento em condições normais.</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s parcelas serão corrigidas pela Selic até o mês anterior ao </a:t>
            </a:r>
            <a:br>
              <a:rPr sz="1800"/>
            </a:br>
            <a:r>
              <a:rPr b="1" lang="pt-BR" sz="1800" spc="-1" strike="noStrike">
                <a:solidFill>
                  <a:srgbClr val="002060"/>
                </a:solidFill>
                <a:latin typeface="Arial"/>
                <a:ea typeface="Arial"/>
              </a:rPr>
              <a:t>vencimento e por 1% no mês de vencimento.</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2" name="PlaceHolder 2"/>
          <p:cNvSpPr>
            <a:spLocks noGrp="1"/>
          </p:cNvSpPr>
          <p:nvPr>
            <p:ph/>
          </p:nvPr>
        </p:nvSpPr>
        <p:spPr>
          <a:xfrm>
            <a:off x="162000" y="1269720"/>
            <a:ext cx="8982000" cy="5491080"/>
          </a:xfrm>
          <a:prstGeom prst="rect">
            <a:avLst/>
          </a:prstGeom>
          <a:noFill/>
          <a:ln w="0">
            <a:noFill/>
          </a:ln>
        </p:spPr>
        <p:txBody>
          <a:bodyPr lIns="45720" rIns="45720" anchor="t">
            <a:norm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2060"/>
                </a:solidFill>
                <a:latin typeface="Arial"/>
                <a:ea typeface="Arial"/>
              </a:rPr>
              <a:t>Impactos da redução de juros e multas para os Municípios:</a:t>
            </a:r>
            <a:endParaRPr b="0" lang="en-US" sz="4000" spc="-1" strike="noStrike">
              <a:solidFill>
                <a:srgbClr val="000000"/>
              </a:solidFill>
              <a:latin typeface="Calibri"/>
            </a:endParaRPr>
          </a:p>
          <a:p>
            <a:pPr>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Valor total da dívida previdenciária dos Municípios: </a:t>
            </a:r>
            <a:r>
              <a:rPr b="1" lang="pt-BR" sz="2000" spc="-1" strike="noStrike">
                <a:solidFill>
                  <a:srgbClr val="ff0000"/>
                </a:solidFill>
                <a:latin typeface="Arial"/>
                <a:ea typeface="Arial"/>
              </a:rPr>
              <a:t>R$ 75,3 bilhões</a:t>
            </a:r>
            <a:endParaRPr b="0" lang="en-US" sz="20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de Redução da dívida previdenciária </a:t>
            </a:r>
            <a:br>
              <a:rPr sz="2000"/>
            </a:br>
            <a:r>
              <a:rPr b="1" lang="pt-BR" sz="2000" spc="-1" strike="noStrike">
                <a:solidFill>
                  <a:srgbClr val="002060"/>
                </a:solidFill>
                <a:latin typeface="Arial"/>
                <a:ea typeface="Arial"/>
              </a:rPr>
              <a:t>dos Municípios: </a:t>
            </a:r>
            <a:r>
              <a:rPr b="1" lang="pt-BR" sz="2400" spc="-1" strike="noStrike">
                <a:solidFill>
                  <a:srgbClr val="ff0000"/>
                </a:solidFill>
                <a:latin typeface="Arial"/>
                <a:ea typeface="Arial"/>
              </a:rPr>
              <a:t>R$ 30,1 bilhões</a:t>
            </a:r>
            <a:endParaRPr b="0" lang="en-US" sz="24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em Percentual da Redução da dívida previdenciária </a:t>
            </a:r>
            <a:br>
              <a:rPr sz="2000"/>
            </a:br>
            <a:r>
              <a:rPr b="1" lang="pt-BR" sz="2000" spc="-1" strike="noStrike">
                <a:solidFill>
                  <a:srgbClr val="002060"/>
                </a:solidFill>
                <a:latin typeface="Arial"/>
                <a:ea typeface="Arial"/>
              </a:rPr>
              <a:t>dos Municípios: </a:t>
            </a:r>
            <a:r>
              <a:rPr b="1" lang="pt-BR" sz="2000" spc="-1" strike="noStrike">
                <a:solidFill>
                  <a:srgbClr val="ff0000"/>
                </a:solidFill>
                <a:latin typeface="Arial"/>
                <a:ea typeface="Arial"/>
              </a:rPr>
              <a:t>40%</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4" name="PlaceHolder 2"/>
          <p:cNvSpPr>
            <a:spLocks noGrp="1"/>
          </p:cNvSpPr>
          <p:nvPr>
            <p:ph/>
          </p:nvPr>
        </p:nvSpPr>
        <p:spPr>
          <a:xfrm>
            <a:off x="162000" y="1270080"/>
            <a:ext cx="8820000" cy="4906800"/>
          </a:xfrm>
          <a:prstGeom prst="rect">
            <a:avLst/>
          </a:prstGeom>
          <a:noFill/>
          <a:ln w="0">
            <a:noFill/>
          </a:ln>
        </p:spPr>
        <p:txBody>
          <a:bodyPr lIns="45720" rIns="45720" anchor="t">
            <a:normAutofit fontScale="94000"/>
          </a:bodyPr>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 Instrução Normativa (IN) da Receita Federal do Brasil (RFB) nº 1710, de 07/06/2017 e a Portaria da Procuradoria Geral da Fazenda Nacional (PGFN) nº 645, de 16/06/2017, regulamentam o parcelamento dos débitos com o RGP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engloba todas as dívidas dos Municípios com o Regime Geral de Previdência Social (RGPS) vencidas até 30 de abril de 2017, inclusive aquelas que já haviam sido parceladas no âmbito do Programa de Regularização Tributária (PRT), da Medida Provisória nº 766/2017 ou em parcelamentos anteriore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contempla tanto as contribuições patronais quanto as descontadas do servidor e não pagas, inclusive multas e juros, exceto a multa por compensação indevida de valores que teriam sido pagos a maior, quando se comprove falsidade da declaração apresentada pelo Município.</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Caso o Município tenha débitos ainda não constituídos junto à RFB, que deseja incluir no parcelamento, eles deverão ser confessados por meio </a:t>
            </a:r>
            <a:br>
              <a:rPr sz="1800"/>
            </a:br>
            <a:r>
              <a:rPr b="1" lang="pt-BR" sz="1800" spc="-1" strike="noStrike">
                <a:solidFill>
                  <a:srgbClr val="002060"/>
                </a:solidFill>
                <a:latin typeface="Arial"/>
                <a:ea typeface="Arial"/>
              </a:rPr>
              <a:t>da GFIP, a ser apresentada até 31 de julho de 2017.</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edido de parcelamento deverá ser formalizado até o dia 31 de </a:t>
            </a:r>
            <a:br>
              <a:rPr sz="1800"/>
            </a:br>
            <a:r>
              <a:rPr b="1" lang="pt-BR" sz="1800" spc="-1" strike="noStrike">
                <a:solidFill>
                  <a:srgbClr val="002060"/>
                </a:solidFill>
                <a:latin typeface="Arial"/>
                <a:ea typeface="Arial"/>
              </a:rPr>
              <a:t>julho de 2017 </a:t>
            </a:r>
            <a:endParaRPr b="0" lang="en-US" sz="1800" spc="-1" strike="noStrike">
              <a:solidFill>
                <a:srgbClr val="000000"/>
              </a:solidFill>
              <a:latin typeface="Calibri"/>
            </a:endParaRPr>
          </a:p>
          <a:p>
            <a:pPr marL="21456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6"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Se o Município desejar parcelar débitos que está questionando na esfera administrativa ou judicial, terá que desistir dos recursos administrativos ou das ações judiciais. O Município tem a opção de não parcelar os débitos que está questionando, ou de desistir apenas de parte dos questionamentos.</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Município ao aderir ao parcelamento está autorizando a retenção do FPM para pagamento das mensalidades do parcelamento e, caso não pague a contribuição previdenciária corrente no prazo devido, no mês seguinte o FPM também será retido para pagar essa contribuição.</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será rescindido pela RFB e pela PGFN por:</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 - falta de recolhimento de diferença não retida no FPM por 3 meses consecutivos ou alternados;</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 - falta de pagamento de uma parcela, estando pagas todas as demais;</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 - falta de apresentação das informações relativas ao demonstrativo </a:t>
            </a:r>
            <a:br>
              <a:rPr sz="1800"/>
            </a:br>
            <a:r>
              <a:rPr b="1" lang="pt-BR" sz="1800" spc="-1" strike="noStrike">
                <a:solidFill>
                  <a:srgbClr val="002060"/>
                </a:solidFill>
                <a:latin typeface="Arial"/>
                <a:ea typeface="Arial"/>
              </a:rPr>
              <a:t>de apuração da RCL; ou</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V - a não quitação integral do pagamento das 6 parcelas </a:t>
            </a:r>
            <a:br>
              <a:rPr sz="1800"/>
            </a:br>
            <a:r>
              <a:rPr b="1" lang="pt-BR" sz="1800" spc="-1" strike="noStrike">
                <a:solidFill>
                  <a:srgbClr val="002060"/>
                </a:solidFill>
                <a:latin typeface="Arial"/>
                <a:ea typeface="Arial"/>
              </a:rPr>
              <a:t>iniciais.</a:t>
            </a: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PARCELAMENTO ESPECIAL PARA OS REGIMES PRÓPRIOS DE PREVIDÊNCIA SOCIAL (RPPS)</a:t>
            </a:r>
            <a:endParaRPr b="0" lang="en-US" sz="3600" spc="-1" strike="noStrike">
              <a:solidFill>
                <a:srgbClr val="000000"/>
              </a:solidFill>
              <a:latin typeface="Calibri Light"/>
            </a:endParaRPr>
          </a:p>
        </p:txBody>
      </p:sp>
      <p:sp>
        <p:nvSpPr>
          <p:cNvPr id="1388" name="PlaceHolder 2"/>
          <p:cNvSpPr>
            <a:spLocks noGrp="1"/>
          </p:cNvSpPr>
          <p:nvPr>
            <p:ph/>
          </p:nvPr>
        </p:nvSpPr>
        <p:spPr>
          <a:xfrm>
            <a:off x="162000" y="1270080"/>
            <a:ext cx="8820000" cy="4906800"/>
          </a:xfrm>
          <a:prstGeom prst="rect">
            <a:avLst/>
          </a:prstGeom>
          <a:noFill/>
          <a:ln w="0">
            <a:noFill/>
          </a:ln>
        </p:spPr>
        <p:txBody>
          <a:bodyPr lIns="45720" rIns="45720" anchor="t">
            <a:normAutofit/>
          </a:bodyPr>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Foi divulgada portaria de regulamentação do parcelamento para os </a:t>
            </a:r>
            <a:r>
              <a:rPr b="1" lang="pt-BR" sz="2000" spc="-1" strike="noStrike" u="sng">
                <a:solidFill>
                  <a:srgbClr val="002060"/>
                </a:solidFill>
                <a:uFillTx/>
                <a:latin typeface="Arial"/>
                <a:ea typeface="Arial"/>
              </a:rPr>
              <a:t>RPPS</a:t>
            </a:r>
            <a:r>
              <a:rPr b="1" lang="pt-BR" sz="2000" spc="-1" strike="noStrike">
                <a:solidFill>
                  <a:srgbClr val="002060"/>
                </a:solidFill>
                <a:latin typeface="Arial"/>
                <a:ea typeface="Arial"/>
              </a:rPr>
              <a:t>. A CNM solicitou que fosse em 260 meses, visto que no INSS, além das 200 parcelas, o resíduo que ficar será parcelado em mais 60 meses. </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No caso dos RPPS não haverá a trava da parcela ficar limitada a 1% da Receita Corrente Líquida (RCL).</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Os juros serão aqueles utilizados para efeitos de meta atuarial (geralmente IPCA ou INPC + 6% ao ano).</a:t>
            </a:r>
            <a:endParaRPr b="0" lang="en-US" sz="2000" spc="-1" strike="noStrike">
              <a:solidFill>
                <a:srgbClr val="000000"/>
              </a:solidFill>
              <a:latin typeface="Calibri"/>
            </a:endParaRPr>
          </a:p>
          <a:p>
            <a:pPr marL="228600" indent="-2286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Poderão ser parcelados todos os débitos do Município com o RPPS constituídos até o mês anterior a autorização Legislativa: contribuição patronal, contribuição do servidor não repassada e outros débitos referentes a uso indevido de recursos previdenciários.</a:t>
            </a:r>
            <a:endParaRPr b="0" lang="en-US" sz="2000" spc="-1" strike="noStrike">
              <a:solidFill>
                <a:srgbClr val="000000"/>
              </a:solidFill>
              <a:latin typeface="Calibri"/>
            </a:endParaRPr>
          </a:p>
        </p:txBody>
      </p:sp>
      <p:sp>
        <p:nvSpPr>
          <p:cNvPr id="1389"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MELHORIAS DA MP 778 </a:t>
            </a:r>
            <a:br>
              <a:rPr sz="3600"/>
            </a:br>
            <a:r>
              <a:rPr b="1" lang="pt-BR" sz="3600" spc="-1" strike="noStrike">
                <a:solidFill>
                  <a:srgbClr val="ffffff"/>
                </a:solidFill>
                <a:latin typeface="Calibri"/>
                <a:ea typeface="Calibri"/>
              </a:rPr>
              <a:t>PROPOSTAS PELA CNM</a:t>
            </a:r>
            <a:endParaRPr b="0" lang="en-US" sz="3600" spc="-1" strike="noStrike">
              <a:solidFill>
                <a:srgbClr val="000000"/>
              </a:solidFill>
              <a:latin typeface="Calibri Light"/>
            </a:endParaRPr>
          </a:p>
        </p:txBody>
      </p:sp>
      <p:sp>
        <p:nvSpPr>
          <p:cNvPr id="1391" name="PlaceHolder 2"/>
          <p:cNvSpPr>
            <a:spLocks noGrp="1"/>
          </p:cNvSpPr>
          <p:nvPr>
            <p:ph/>
          </p:nvPr>
        </p:nvSpPr>
        <p:spPr>
          <a:xfrm>
            <a:off x="162000" y="1088640"/>
            <a:ext cx="8820000" cy="5643720"/>
          </a:xfrm>
          <a:prstGeom prst="rect">
            <a:avLst/>
          </a:prstGeom>
          <a:noFill/>
          <a:ln w="0">
            <a:noFill/>
          </a:ln>
        </p:spPr>
        <p:txBody>
          <a:bodyPr lIns="45720" rIns="45720" anchor="t">
            <a:normAutofit/>
          </a:bodyPr>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Supressão do inciso que prevê rescisão sumária em razão de um único atraso de parcela (Emenda nº 22);</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ovação da Emenda nº 25, que estabelece critérios para a realização de efetivo encontro de contas, criando mecanismos para que dívidas do RGPS com as Prefeituras sejam efetivamente liquidadas; </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esentação das seguintes emendas de Relator:</a:t>
            </a:r>
            <a:endParaRPr b="0" lang="en-US" sz="1600" spc="-1" strike="noStrike">
              <a:solidFill>
                <a:srgbClr val="000000"/>
              </a:solidFill>
              <a:latin typeface="Calibri"/>
            </a:endParaRPr>
          </a:p>
          <a:p>
            <a:pPr lvl="1" marL="723960" indent="-266760" algn="just">
              <a:lnSpc>
                <a:spcPct val="10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gilização da análise dos processos de compensação previdenciária (prazo de 120 dias para o INSS aprovar o requerimento), passar a corrigir os valores pelo mesmo critério que a União corrige as dívidas dos Municípios com o RGPS (ao invés de apenas o INPC passar a ser a Selic) e pagar o estoque;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são na MP 778 de parcelamento especial para as dívidas dos Entes com seus RPPS em sistemática similar à do RGPS, ou seja, em 260 parcelas.</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Condicionar a obrigatoriedade de desistência de ações judiciais à possibilidade de questionar via encontro de contas administrativos;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Prazo adicional para adesão ao parcelamento especial até dez/2017;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mpliação da redução das multas de 25% para 40%; e</a:t>
            </a:r>
            <a:endParaRPr b="0" lang="en-US" sz="1600" spc="-1" strike="noStrike">
              <a:solidFill>
                <a:srgbClr val="000000"/>
              </a:solidFill>
              <a:latin typeface="Calibri"/>
            </a:endParaRPr>
          </a:p>
          <a:p>
            <a:pPr lvl="1" marL="723960" indent="-26676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ir o parcelamento das dívidas com o PASEP, bem como o fim </a:t>
            </a:r>
            <a:br>
              <a:rPr sz="1600"/>
            </a:br>
            <a:r>
              <a:rPr b="1" lang="pt-BR" sz="1600" spc="-1" strike="noStrike">
                <a:solidFill>
                  <a:srgbClr val="002060"/>
                </a:solidFill>
                <a:latin typeface="Arial"/>
                <a:ea typeface="Arial"/>
              </a:rPr>
              <a:t>da incidência do PASEP sobre os RPPS.</a:t>
            </a:r>
            <a:endParaRPr b="0" lang="en-US" sz="1600" spc="-1" strike="noStrike">
              <a:solidFill>
                <a:srgbClr val="000000"/>
              </a:solidFill>
              <a:latin typeface="Calibri"/>
            </a:endParaRPr>
          </a:p>
        </p:txBody>
      </p:sp>
      <p:sp>
        <p:nvSpPr>
          <p:cNvPr id="1392"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19:36:45Z</dcterms:created>
  <dc:creator>Eduardo Viana</dc:creator>
  <dc:description/>
  <dc:language>en-US</dc:language>
  <cp:lastModifiedBy>Silvana do Socorro Machado Rodrigues - MPS</cp:lastModifiedBy>
  <cp:lastPrinted>2017-08-03T12:23:46Z</cp:lastPrinted>
  <dcterms:modified xsi:type="dcterms:W3CDTF">2017-08-03T12:29:45Z</dcterms:modified>
  <cp:revision>494</cp:revision>
  <dc:subject/>
  <dc:title>PowerPoint Presentation</dc:title>
</cp:coreProperties>
</file>